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E914-F2B2-42E7-A5FF-2CCE00733C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ust play through the manchuria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D626-41A6-4C68-AB03-4A6B435CA5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E64-8599-4037-9AE8-5903C167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0AC-5CFF-4954-BCCA-F2EDD4D6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CD4-991D-458B-94F2-E43AE0B0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8E6-34C7-47A3-8A0D-A1E522E2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221-9C47-4F0E-8C89-8DC9975C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04C-21F3-4AF3-AB23-4EC84EE8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23B-ED44-4D07-BDA0-F7F5A017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662-C35C-432B-B9B8-AEA73923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023-0C53-4C17-A9D4-FCC0F9F9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459-5D67-4C8A-ABD6-20F2549E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C16-B028-467A-8AEE-7DAE4380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0D0-936A-4D6C-AAA0-424AD7B4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37C3-6C29-4685-8964-05EB2A1F11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youtu.be/fYGsdC7Sg38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proprofs.com/quiz-school/quizshow.php?title=quiz-on-effects--depression-on-league-nations&amp;q=3&amp;next=y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42920" y="217440"/>
            <a:ext cx="8353440" cy="302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o No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ll in the blanks to learn why militarism was growing in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ink about the work on the impact of the ‘Depression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- summarise the key information in a short paragraph within your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41120" y="3573360"/>
            <a:ext cx="8818560" cy="314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conomy- the movement of money (buying and se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litarism- using your military in an aggressive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lation- the increase of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eaties- agreements between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erior- not as goo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716360" y="1913040"/>
            <a:ext cx="4067280" cy="3384360"/>
          </a:xfrm>
          <a:prstGeom prst="rect">
            <a:avLst/>
          </a:prstGeom>
          <a:solidFill>
            <a:srgbClr val="eef9f4"/>
          </a:solidFill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859280" y="1954080"/>
            <a:ext cx="406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 know this sounds all wrong, perhaps immoral, when Japan is flouting the League of Nations, but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1) she was greatly provok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2) she must ere long expand somewhere - for goodness sake let (or rather encourage) her to do so there instead of Australia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3) her control of Manchuria means a real block against Communist aggre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http://www.johndclare.net/images/trample.gif"/>
          <p:cNvPicPr/>
          <p:nvPr/>
        </p:nvPicPr>
        <p:blipFill>
          <a:blip r:embed="rId1"/>
          <a:stretch/>
        </p:blipFill>
        <p:spPr>
          <a:xfrm>
            <a:off x="322200" y="2184480"/>
            <a:ext cx="4249800" cy="3112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179280" y="26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useful are Sources E and F to a historian studying how well the League of Nations dealt with the Manchurian crisis? (12 ma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328320" y="19018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22200" y="53071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This cartoon of 1933, by the British cartoonist David Low, is entitled: 'The Doormat'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716360" y="527040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A letter from the Master of Peterhouse, Cambridge University, to his friend John Simon, the British Foreign Secretary (193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mg240"/>
          <p:cNvPicPr/>
          <p:nvPr/>
        </p:nvPicPr>
        <p:blipFill>
          <a:blip r:embed="rId1"/>
          <a:stretch/>
        </p:blipFill>
        <p:spPr>
          <a:xfrm>
            <a:off x="257040" y="333360"/>
            <a:ext cx="4602240" cy="6310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429160" y="3860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29160" y="52164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"/>
          <p:cNvSpPr/>
          <p:nvPr/>
        </p:nvSpPr>
        <p:spPr>
          <a:xfrm>
            <a:off x="5076720" y="189000"/>
            <a:ext cx="3888000" cy="10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076720" y="261144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Straight Arrow Connector 9"/>
          <p:cNvCxnSpPr/>
          <p:nvPr/>
        </p:nvCxnSpPr>
        <p:spPr>
          <a:xfrm flipV="1">
            <a:off x="2558520" y="1956960"/>
            <a:ext cx="2870640" cy="4788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Straight Arrow Connector 10"/>
          <p:cNvCxnSpPr/>
          <p:nvPr/>
        </p:nvCxnSpPr>
        <p:spPr>
          <a:xfrm flipV="1">
            <a:off x="3742920" y="905760"/>
            <a:ext cx="1477080" cy="1436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Straight Arrow Connector 12"/>
          <p:cNvCxnSpPr/>
          <p:nvPr/>
        </p:nvCxnSpPr>
        <p:spPr>
          <a:xfrm flipV="1">
            <a:off x="2516040" y="3212280"/>
            <a:ext cx="2704320" cy="1399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s1.thingpic.com/images/n3/2RD2kq3oFy9RXpG9VwSqPcGZ.jpeg"/>
          <p:cNvPicPr/>
          <p:nvPr/>
        </p:nvPicPr>
        <p:blipFill>
          <a:blip r:embed="rId1"/>
          <a:stretch/>
        </p:blipFill>
        <p:spPr>
          <a:xfrm>
            <a:off x="212760" y="66600"/>
            <a:ext cx="5438880" cy="454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12760" y="464040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12760" y="556092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5200560" y="220680"/>
            <a:ext cx="3889440" cy="107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5200560" y="247500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Straight Arrow Connector 9"/>
          <p:cNvCxnSpPr/>
          <p:nvPr/>
        </p:nvCxnSpPr>
        <p:spPr>
          <a:xfrm flipV="1">
            <a:off x="1402920" y="1956600"/>
            <a:ext cx="4026600" cy="12452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Straight Arrow Connector 10"/>
          <p:cNvCxnSpPr/>
          <p:nvPr/>
        </p:nvCxnSpPr>
        <p:spPr>
          <a:xfrm flipV="1">
            <a:off x="4643280" y="701280"/>
            <a:ext cx="937440" cy="7178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Straight Arrow Connector 12"/>
          <p:cNvCxnSpPr/>
          <p:nvPr/>
        </p:nvCxnSpPr>
        <p:spPr>
          <a:xfrm flipV="1">
            <a:off x="5219280" y="3320640"/>
            <a:ext cx="361080" cy="364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Straight Arrow Connector 16"/>
          <p:cNvCxnSpPr/>
          <p:nvPr/>
        </p:nvCxnSpPr>
        <p:spPr>
          <a:xfrm flipV="1">
            <a:off x="3997440" y="853560"/>
            <a:ext cx="1735920" cy="1990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50920" y="333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Review and Refl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Up Ribbon 2"/>
          <p:cNvSpPr/>
          <p:nvPr/>
        </p:nvSpPr>
        <p:spPr>
          <a:xfrm>
            <a:off x="250920" y="1015920"/>
            <a:ext cx="4105080" cy="2160720"/>
          </a:xfrm>
          <a:custGeom>
            <a:avLst/>
            <a:gdLst>
              <a:gd name="textAreaLeft" fmla="*/ 1026360 w 4105080"/>
              <a:gd name="textAreaRight" fmla="*/ 3079080 w 4105080"/>
              <a:gd name="textAreaTop" fmla="*/ 0 h 2160720"/>
              <a:gd name="textAreaBottom" fmla="*/ 1800720 h 21607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Vertical Scroll 4"/>
          <p:cNvSpPr/>
          <p:nvPr/>
        </p:nvSpPr>
        <p:spPr>
          <a:xfrm>
            <a:off x="5219640" y="907920"/>
            <a:ext cx="3456000" cy="23767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urved Down Ribbon 5"/>
          <p:cNvSpPr/>
          <p:nvPr/>
        </p:nvSpPr>
        <p:spPr>
          <a:xfrm>
            <a:off x="395280" y="3645000"/>
            <a:ext cx="3816360" cy="2520720"/>
          </a:xfrm>
          <a:custGeom>
            <a:avLst/>
            <a:gdLst>
              <a:gd name="textAreaLeft" fmla="*/ 954000 w 3816360"/>
              <a:gd name="textAreaRight" fmla="*/ 2862360 w 3816360"/>
              <a:gd name="textAreaTop" fmla="*/ 630000 h 2520720"/>
              <a:gd name="textAreaBottom" fmla="*/ 2446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Horizontal Scroll 6"/>
          <p:cNvSpPr/>
          <p:nvPr/>
        </p:nvSpPr>
        <p:spPr>
          <a:xfrm>
            <a:off x="5218200" y="4025880"/>
            <a:ext cx="3529080" cy="22827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332000" y="112536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Japan invaded 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724360" y="1311120"/>
            <a:ext cx="25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e League tried to address th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1332000" y="454644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the League was 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724360" y="45766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at this event made the League w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03200" y="0"/>
            <a:ext cx="65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: Rounded Corners 1"/>
          <p:cNvSpPr/>
          <p:nvPr/>
        </p:nvSpPr>
        <p:spPr>
          <a:xfrm>
            <a:off x="179280" y="209520"/>
            <a:ext cx="8575920" cy="1014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hy did the League Fail in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: Rounded Corners 2"/>
          <p:cNvSpPr/>
          <p:nvPr/>
        </p:nvSpPr>
        <p:spPr>
          <a:xfrm>
            <a:off x="596880" y="2349360"/>
            <a:ext cx="3630600" cy="1764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BASIC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1-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mic Sans MS"/>
              </a:rPr>
              <a:t>describe</a:t>
            </a:r>
            <a:r>
              <a:rPr b="0" lang="en-GB" sz="2000" spc="-1" strike="noStrike">
                <a:solidFill>
                  <a:srgbClr val="92d05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anchurian Crisi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: Rounded Corners 7"/>
          <p:cNvSpPr/>
          <p:nvPr/>
        </p:nvSpPr>
        <p:spPr>
          <a:xfrm>
            <a:off x="596880" y="4376880"/>
            <a:ext cx="3630600" cy="1800000"/>
          </a:xfrm>
          <a:prstGeom prst="roundRect">
            <a:avLst>
              <a:gd name="adj" fmla="val 16667"/>
            </a:avLst>
          </a:prstGeom>
          <a:solidFill>
            <a:srgbClr val="d76fc1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DEVELOP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5-6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Comic Sans MS"/>
              </a:rPr>
              <a:t>evaluat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how well the LON dealt with the Japanese invasion of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: Rounded Corners 13"/>
          <p:cNvSpPr/>
          <p:nvPr/>
        </p:nvSpPr>
        <p:spPr>
          <a:xfrm>
            <a:off x="4786200" y="2454120"/>
            <a:ext cx="3637080" cy="17640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SIMPL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3-4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Comic Sans MS"/>
              </a:rPr>
              <a:t>explai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y Japan wanted to control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... votes against joining the &lt;strong&gt;League of Nations&lt;/strong&gt; | Conspiracy of Wor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1080" y="4398840"/>
            <a:ext cx="2249640" cy="224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250920" y="18558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ccess Crite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ere is Manchu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4436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ap of Southeastern Asian Pacific Region with Japanese flag on Japan.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4896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2895480" y="1676520"/>
            <a:ext cx="2057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87120"/>
            <a:ext cx="9144000" cy="8362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 did Japan attack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1068120"/>
            <a:ext cx="5219640" cy="5877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Manchuri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was region of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hin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an area rich in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natural resources 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(E.g.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oal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Iron Ore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)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farmland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was a growing power in the Pacific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However it lacked natural resources. In particular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Before 1929, Japan’s economy was based on exporting silk to rich countries, like the US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70c0"/>
                </a:solidFill>
                <a:latin typeface="Comic Sans MS"/>
              </a:rPr>
              <a:t>How did the Great Depression impact on Japan’s economy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needed resources and l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Manchuria seemed a good place to inv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close to Japa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already had industry, railways and an army in Manchur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There was confusion over who owned the area. (China, Russia or Japan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ontent Placeholder 5" descr=""/>
          <p:cNvPicPr/>
          <p:nvPr/>
        </p:nvPicPr>
        <p:blipFill>
          <a:blip r:embed="rId1"/>
          <a:stretch/>
        </p:blipFill>
        <p:spPr>
          <a:xfrm>
            <a:off x="5334120" y="4322880"/>
            <a:ext cx="3809880" cy="253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334120" y="105264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44360" y="25560"/>
            <a:ext cx="88552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What the League di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sent a group of officials led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ord Lytto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study the problem (this took a yea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February 1933 his written report led to the LON ordering Japan to leave Manchu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Outcom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apan refused to leave Manchuria.   Instead,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Japan left the Leagu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ny countries had important trading links with Japan.   The League could not agree on sanctions or even a ban on weapons sale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ritain and France did not want a war, so nothing was d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Japanese stayed in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had fail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95280" y="5732640"/>
            <a:ext cx="4968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 Question: How has the League fail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ummary in 6 point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 1931 the Japanese claimed that one of their trains in Manchuria had been bomb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Japanese army used this as an excuse to attack, taking over the Chinese province of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Chinese denied that the train had been bombed at 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of nations set up the Lytton Commission to investigate the incident.  Lord Lytton concluded that the Japanese had over reacted and should not have invaded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Japan ignored the League’s findings and left the organisation.  They started a full scale invasion of Chi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was powerless to do anything about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24000" y="333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sk: Complete the storyboard showing what happened during the invasion of Manchuria and how the League dealt with the incid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472000" y="4338720"/>
            <a:ext cx="3672000" cy="25192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5"/>
          <p:cNvSpPr/>
          <p:nvPr/>
        </p:nvSpPr>
        <p:spPr>
          <a:xfrm>
            <a:off x="784692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6"/>
          <p:cNvSpPr/>
          <p:nvPr/>
        </p:nvSpPr>
        <p:spPr>
          <a:xfrm>
            <a:off x="663408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7"/>
          <p:cNvSpPr/>
          <p:nvPr/>
        </p:nvSpPr>
        <p:spPr>
          <a:xfrm>
            <a:off x="5472000" y="527364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5472000" y="549108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1"/>
          <p:cNvSpPr/>
          <p:nvPr/>
        </p:nvSpPr>
        <p:spPr>
          <a:xfrm>
            <a:off x="5472000" y="657072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C:\Users\Gayle\AppData\Local\Microsoft\Windows\Temporary Internet Files\Content.IE5\KMXZUEZU\MC900331514[1].wmf"/>
          <p:cNvPicPr/>
          <p:nvPr/>
        </p:nvPicPr>
        <p:blipFill>
          <a:blip r:embed="rId1"/>
          <a:stretch/>
        </p:blipFill>
        <p:spPr>
          <a:xfrm>
            <a:off x="5472000" y="4554360"/>
            <a:ext cx="1150920" cy="532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https://upload.wikimedia.org/wikipedia/commons/thumb/f/fa/Flag_of_the_People%27s_Republic_of_China.svg/255px-Flag_of_the_People%27s_Republic_of_China.svg.png"/>
          <p:cNvPicPr/>
          <p:nvPr/>
        </p:nvPicPr>
        <p:blipFill>
          <a:blip r:embed="rId2"/>
          <a:stretch/>
        </p:blipFill>
        <p:spPr>
          <a:xfrm>
            <a:off x="34920" y="5594400"/>
            <a:ext cx="1698480" cy="113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https://rlv.zcache.com/japan_japanese_flag_rectangular_sticker-r0693c9f6431e466fb41b5563c2549d4a_v9wxo_8byvr_324.jpg"/>
          <p:cNvPicPr/>
          <p:nvPr/>
        </p:nvPicPr>
        <p:blipFill>
          <a:blip r:embed="rId3"/>
          <a:srcRect l="0" t="17485" r="0" b="24251"/>
          <a:stretch/>
        </p:blipFill>
        <p:spPr>
          <a:xfrm>
            <a:off x="1844640" y="5594400"/>
            <a:ext cx="2000160" cy="116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4"/>
          <a:srcRect l="15350" t="24802" r="57752" b="14723"/>
          <a:stretch/>
        </p:blipFill>
        <p:spPr>
          <a:xfrm>
            <a:off x="90360" y="1457280"/>
            <a:ext cx="52466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50920" y="189000"/>
            <a:ext cx="86421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y was the League of Nations unable to stop Japan taking over Manchuria in the 1930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seven reasons why the League fail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Weak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merica was not a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The League's structure/organisation was 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World Depression made nations less coo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 The more the League failed, the less authority i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 Its own members betrayed it and let it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 The League faced aggressive military fascist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ow many of these factors can you see at work in the League's failure in the Manchurian crisis - 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to each one explain how it played a part in Manchu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: Why did the League fail in Manchuria? Exp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04:17Z</dcterms:created>
  <dc:creator>brettw</dc:creator>
  <dc:description/>
  <dc:language>en-US</dc:language>
  <cp:lastModifiedBy>Short, L (SHS Teacher)</cp:lastModifiedBy>
  <cp:lastPrinted>2020-11-13T07:35:35Z</cp:lastPrinted>
  <dcterms:modified xsi:type="dcterms:W3CDTF">2020-11-13T08:05:55Z</dcterms:modified>
  <cp:revision>41</cp:revision>
  <dc:subject/>
  <dc:title>Why did the League Fail in Manchuria?</dc:title>
</cp:coreProperties>
</file>